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58400" cy="77724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582F1-A9A6-4108-A72D-89F63E4096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1EF-E709-49ED-B081-3D1DD83C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2263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2600" y="4545360"/>
            <a:ext cx="82263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AD6-9155-4F12-BB9B-98B7FC55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40143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8200" y="1599840"/>
            <a:ext cx="40143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2600" y="4545360"/>
            <a:ext cx="40143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28200" y="4545360"/>
            <a:ext cx="40143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570-9C1B-4EAD-86C8-BD4D7B37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26485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3960" y="1599840"/>
            <a:ext cx="26485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5320" y="1599840"/>
            <a:ext cx="26485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2600" y="4545360"/>
            <a:ext cx="26485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3960" y="4545360"/>
            <a:ext cx="26485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5320" y="4545360"/>
            <a:ext cx="26485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C862-8DF5-46C3-B3C8-A058AD3E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2600" y="1599840"/>
            <a:ext cx="8226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582-E5F6-40A4-B46E-A4950E1F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226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D76-3980-4278-87A5-8410E2C8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4014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8200" y="1599840"/>
            <a:ext cx="4014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3F6-B8ED-4C8C-B142-2F8110F1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F368-312D-40FC-8A37-98ED59A7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2600" y="456840"/>
            <a:ext cx="8226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22D3-AB5C-4F47-A5CE-4701E9C1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40143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8200" y="1599840"/>
            <a:ext cx="4014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2600" y="4545360"/>
            <a:ext cx="40143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939-ECE2-4BFC-8E55-F4751C24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4014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8200" y="1599840"/>
            <a:ext cx="40143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28200" y="4545360"/>
            <a:ext cx="40143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066D-1903-4964-B785-8AE0AF21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40143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8200" y="1599840"/>
            <a:ext cx="40143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2600" y="4545360"/>
            <a:ext cx="82263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C14-8C7D-4FD3-8794-6C14C174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362320" cy="7772400"/>
          </a:xfrm>
          <a:prstGeom prst="rect">
            <a:avLst/>
          </a:prstGeom>
          <a:gradFill rotWithShape="0">
            <a:gsLst>
              <a:gs pos="0">
                <a:srgbClr val="386cb8">
                  <a:alpha val="0"/>
                </a:srgbClr>
              </a:gs>
              <a:gs pos="100000">
                <a:srgbClr val="4a8ff4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7315200"/>
            <a:ext cx="10058400" cy="457200"/>
          </a:xfrm>
          <a:prstGeom prst="rect">
            <a:avLst/>
          </a:prstGeom>
          <a:solidFill>
            <a:srgbClr val="4169e7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2600" y="1599840"/>
            <a:ext cx="8226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7314840"/>
            <a:ext cx="140508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514240" y="7311600"/>
            <a:ext cx="518004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7314840"/>
            <a:ext cx="121788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22AA6-4A95-4FD5-9DF8-A4C4283F38A5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of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205740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1143000"/>
            <a:ext cx="822780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Embedded Linu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Target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5562720"/>
            <a:ext cx="8534520" cy="12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 Bir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ny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ony Corporation of Amer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9CB-3521-4AD6-82FB-0513356451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25/2008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2057400"/>
            <a:ext cx="72388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 sample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226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c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71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x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c osk seten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c get_kernel -o printk-test ; cd printk-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c get_conf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c set_config CONFIG_PRINTK_TIMES=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in another terminal) tc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c kbuild ; tc kinstall ; tc reb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c run dmes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ony Corporation of Amer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358-DC24-4799-B539-B3140242C68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1/2008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 confi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226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c is a pretty thin layer - most logic is in the config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conf file = /etc/tc.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 conf file = specified by LOCAL_TARGET_CO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 file has list of targets, with attributes for ea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ibutes are: name=&lt;valu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ibutes with a '_cmd' ending are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rget=tx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=m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mage=u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build_cmd=make ARCH=$ARCH $k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and: “tc tx49 kbui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ony Corporation of Amer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205-B43D-4859-85EF-19D6C6C4A1A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1/2008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C config file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226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447920"/>
            <a:ext cx="9144000" cy="541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=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="""TI OMAP Starter Kit (O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AP5912 processor (ARM926EJ-S core and a C55x DSP)""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_PATH=/usr/local/arm-sony-linux/devel/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=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_COMPILE=arm-sony-linux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DIR=/t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BUILD_OUTPUT=../build/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addr=192.168.1.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mage=u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_kernel_cmd=git clone sony-git-master –o $KERNEL_S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_config_cmd=make omap5912_defconf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e_cmd=minicom USB0-11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n_cmd=telnet osk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stall_cmd=cp -v $KBUILD_OUTPUT/arch/arm/boot/uImage /target/osk2/b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boot_cmd=omap-reb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_bin=/devel/usr/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_to_cmd=cp $src /target/osk2/$d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_from_cmd=cp /target/osk2/$src $d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_cmd=rm /target/osk2/$d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ony Corporation of Amer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00FA-D716-417A-8B31-B6F991FF2E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1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C config file (cont.)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226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anced stuf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heri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rget=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herit_from=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z=frob-nob –x %(var_name)s -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ce/temporary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c tx49 set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c tx49 setenv -o tempfile ; source tempfile ;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ony Corporation of Amer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374-CC96-4DAC-86B0-41F914F771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1/2008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etup p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226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loader that can automatically download and boot kernel via tf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unt root file system over N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rnel console over serial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rget supports ssh for remote login and remote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password on root (but this is not a big de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ony Corporation of Amer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C417-7B8B-42B1-9588-03F85AE6F9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1/2008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st/Target require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226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IREMENT: It must be possible to install a kernel or file system on the target from the command line (i.e. non-interactive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boards support this fairly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bootloaders and board configs require the use of expect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tend to use python expect (pexpect.py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targets can only be re-flashed using a windows utility (Ugh!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must be a way to automate this - have fu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ony Corporation of Amer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91C-A6AC-4BB6-843D-78534DCA59D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1/2008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ing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226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xxx&gt;-reset, &lt;xxx&gt;-reb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6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stom reboot/reset scripts for your power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tch-target-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6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with 'tc reserv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t-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6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lone program to download a kernel from kernel.org (similar to ketchup, but with less fea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6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be used with 'tc get_kernel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net_exec/ssh_ex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6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'tc run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com (or other terminal emulator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6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'tc consol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net, s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6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'tc login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ony Corporation of Amer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821B-208E-4EC8-9952-FA03E9979BA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1/2008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7645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me P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mirror.celinuxforum.org/labwiki/Target_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cum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mirror.celinuxforum.org/labwiki/Target_Control_Usage_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: celinux-dev@tree.celinuxforum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: tim.bird &lt;at&gt; am.sony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ony Corporation of Amer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8EE-93FE-4D7F-B8BF-437CEF0DCA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1/200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226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ing Target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arget Contr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us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configur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ony Corporation of Amer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CB1-126E-464F-8A9E-673116454B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1/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ng Target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226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ogram that helps you build and install kernels on a target board, then install and run programs on th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did it come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tc" was originally written for the CELF test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 was to support remote development and test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 lab didn't work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7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lthough CELF might revive it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c is now in active use inside S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my official release to the public, and I expect to maintain it go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ony Corporation of Amer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DE0-15E7-4939-AF78-A8C9B35206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1/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c Purpose (1)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226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ows you to develop and test a kernel on different boards, using the same com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ary goal is to preserve my own s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use lots of different boards, with different attribu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chitectures (arm, mips, powerpc, x86, etc.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olchains (different versions, endian-ness, etc.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tloaders (u-boot, pmon, custom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address, serial por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all procedures (tftp, serial upload, USB load, re-flash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te execution programs (telnet, ssh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usually work on at least 2 boards at a time, and sometimes on 5 or 6 at a time (for testing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ards are sometimes 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boards are in a remote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ony Corporation of Amer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2D2-A0EE-4CC5-9B70-08E0EADBAE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1/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c Purpose (2)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226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developers to share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access to boards on a remot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for test auto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commands can be used to perform tests on different target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erform same steps manually, or write a program to perform the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autom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ony Corporation of Amer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34E-7D16-403A-8F31-1AAF49094D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1/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2960" y="1599840"/>
            <a:ext cx="87645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c provides an abstraction layer to shield the developer from details of board configuration and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'tc' op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a configuratio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up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command(s) appropriate for the specified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not “rocket science”, just a simple helper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c is command-line 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orks over an network lo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ssh'ed to a remote host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an be automated from any language (sh, python, etc.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ony Corporation of Amer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7C1-D6EB-49F8-8EE2-A1F6D96178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1/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226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c is on a host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st machine has toolchain, access to kernel sources, patch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st has ability to control power to target (or some method to reset the target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st has network connection to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 has connection to target serial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ony Corporation of Amer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8BF-DA43-4240-86BF-34FE9A323B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1/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226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_kernel – retrieve kernel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_config – get config for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build – build 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install – install the kernel to be boot on the target bo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boot – reboot th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t performs an optional soft re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ole – monitor kernel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ually starts mini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n – execute a command on the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ony Corporation of Amer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997D-D7DE-491D-855A-B11E6B1A52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1/2008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2600" y="456840"/>
            <a:ext cx="8226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TC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1599840"/>
            <a:ext cx="82263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e – reserve a target board for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_config – set an individual configuratio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Sony Corporation of Amer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FF8-1BE7-4A25-BCDD-D9BB95CE3F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11/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m Bird</cp:lastModifiedBy>
  <dcterms:modified xsi:type="dcterms:W3CDTF">2008-07-25T20:31:20Z</dcterms:modified>
  <cp:revision>12</cp:revision>
  <dc:subject/>
  <dc:title>Slide 1</dc:title>
</cp:coreProperties>
</file>